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6C91-D172-4593-8BE4-F0EBDCF34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AE5B-9D79-4769-851A-8EC990236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F999-DC6A-4EB3-BA88-6311FF1D0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1195-1F68-46C1-B006-5996066E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A7BD-B971-4320-B2CD-E6E09FA5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231C-AB8D-4350-865B-5978DB0F9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81F8-9766-4629-B5AA-2036FB6E8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EEF0-34AE-48F2-9EAE-B4C01C430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1CC5-ABDF-4BB9-96EA-EA5BF350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93E6-8EFA-48AA-802F-92AF288CD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B9BE-E4AA-4C17-A099-168C7B44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2EDB-DF3F-4327-83C6-507765CCF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F6A6-67C6-4DC2-AF91-50BB2944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0F55-D7AE-4DCB-A11D-00188503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5EAC-3CCE-41E1-9470-384FE379A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4D5D-C294-450B-A683-81B9CD12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F8FF-B7CC-4C5E-9481-1C34B1B9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252F-A4B7-40CA-9A5F-EBB97EE1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9A83-99C1-4DCD-8D15-AB1EFD85B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2780-791B-41AC-A7D6-8CCF7B52D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EB2E-251B-47C0-94BA-7FD3EC307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91BC-662E-45C6-BF09-ADBEE687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AE9F-7154-494D-A2B5-374F66E50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39DF-11DE-40B0-A4D2-305508795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655-66AB-42C1-9197-EA43831F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157-23ED-49BD-8C80-D13A6626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B78-35DF-4C96-B309-882B73F4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E8E-1E32-4DF2-A074-D263B6A6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4A1B-CBF1-47C0-9954-C1F40AFC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F9AD-75F5-4AF7-A2DC-C1497CEA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80A5-86BC-49E7-8EFB-C188CFFD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242B-E99E-44B3-A2A1-4330982A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737A-C40B-4F83-9D28-74FC6E98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AD13-9ECF-465A-B459-EA5598F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FC73-D98D-433A-9073-8EF54F4F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05E-629F-4366-98EB-F17EDF29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045B-7A8A-4DD0-84BF-F02CC0C2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9320-66B5-4746-9985-D4614AD1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D972-14B6-4828-ABA7-A65C11DB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4ACB-0F26-4CD2-A99E-14157AB4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9390-7D56-4594-8FEF-C6AC6CAE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01B8-AA85-414C-9546-AD976439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592B-6E51-4C28-8485-4979914A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CF56-8740-483F-905B-09DF84C0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D3C9-2095-440E-BEC1-40AB6AFB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A45B-F99F-4346-8372-04E22306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FD7-9DB5-4F7D-8E44-1902166A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ECDF-AF4C-47E6-9E51-AF8DC6B0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308E-9560-42F2-BFEC-E150567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369A6-3044-4A2C-BF0C-E3442108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3EBEC-34FD-47E6-BB24-D8BBAA88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539E-9A8A-45A0-B1F5-6D16A0C6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B867-7827-4B61-9C32-4C0B2018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4176-FE11-429A-BB89-634B78DD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6C1-AA26-4E57-AEE3-AA041EA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5DC-D1FD-4610-B159-D04CE33E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49C-6767-474D-8E85-514C3A3D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411-6D70-4D28-BE80-CB50B4D2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1B8-AC39-4002-BCE4-038ECBB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BBE-F493-4244-9E3D-CB31A160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C3E2-9CF8-4BBF-9812-4D2BAC23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FEDA-1FCB-4C43-A712-76E7E08C8D6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99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892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4524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C291-A22F-4FD8-8C90-8E34C403801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49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169040" y="31104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0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Gw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09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8"/>
          <p:cNvSpPr/>
          <p:nvPr/>
        </p:nvSpPr>
        <p:spPr>
          <a:xfrm>
            <a:off x="838080" y="22089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5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Rectangle 3"/>
          <p:cNvSpPr/>
          <p:nvPr/>
        </p:nvSpPr>
        <p:spPr>
          <a:xfrm>
            <a:off x="53352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0">
            <a:hlinkClick r:id="rId26" action="ppaction://hlinksldjump"/>
          </p:cNvPr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4" name="WordArt 2" descr=""/>
          <p:cNvPicPr/>
          <p:nvPr/>
        </p:nvPicPr>
        <p:blipFill>
          <a:blip r:embed="rId3"/>
          <a:stretch/>
        </p:blipFill>
        <p:spPr>
          <a:xfrm>
            <a:off x="1060560" y="1384200"/>
            <a:ext cx="7016760" cy="3651480"/>
          </a:xfrm>
          <a:prstGeom prst="rect">
            <a:avLst/>
          </a:prstGeom>
          <a:ln w="0">
            <a:noFill/>
          </a:ln>
        </p:spPr>
      </p:pic>
      <p:grpSp>
        <p:nvGrpSpPr>
          <p:cNvPr id="545" name="AutoShape 108"/>
          <p:cNvGrpSpPr/>
          <p:nvPr/>
        </p:nvGrpSpPr>
        <p:grpSpPr>
          <a:xfrm>
            <a:off x="438120" y="4784760"/>
            <a:ext cx="3232080" cy="1324080"/>
            <a:chOff x="438120" y="4784760"/>
            <a:chExt cx="3232080" cy="1324080"/>
          </a:xfrm>
        </p:grpSpPr>
        <p:pic>
          <p:nvPicPr>
            <p:cNvPr id="546" name="AutoShape 108" descr=""/>
            <p:cNvPicPr/>
            <p:nvPr/>
          </p:nvPicPr>
          <p:blipFill>
            <a:blip r:embed="rId4"/>
            <a:stretch/>
          </p:blipFill>
          <p:spPr>
            <a:xfrm>
              <a:off x="438120" y="4784760"/>
              <a:ext cx="3232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457200" y="4800600"/>
              <a:ext cx="32004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AutoShape 4"/>
          <p:cNvGrpSpPr/>
          <p:nvPr/>
        </p:nvGrpSpPr>
        <p:grpSpPr>
          <a:xfrm>
            <a:off x="5632560" y="146160"/>
            <a:ext cx="2755800" cy="1920600"/>
            <a:chOff x="5632560" y="146160"/>
            <a:chExt cx="2755800" cy="1920600"/>
          </a:xfrm>
        </p:grpSpPr>
        <p:pic>
          <p:nvPicPr>
            <p:cNvPr id="550" name="AutoShape 4" descr=""/>
            <p:cNvPicPr/>
            <p:nvPr/>
          </p:nvPicPr>
          <p:blipFill>
            <a:blip r:embed="rId2"/>
            <a:stretch/>
          </p:blipFill>
          <p:spPr>
            <a:xfrm>
              <a:off x="5632560" y="146160"/>
              <a:ext cx="275580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638680" y="152280"/>
              <a:ext cx="27432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What day was Christmas 2008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hursd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1295280" y="205740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0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 pacheco</cp:lastModifiedBy>
  <dcterms:modified xsi:type="dcterms:W3CDTF">2009-02-02T23:07:29Z</dcterms:modified>
  <cp:revision>38</cp:revision>
  <dc:subject/>
  <dc:title>Slide 1</dc:title>
</cp:coreProperties>
</file>